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9C4A-7EB0-4278-A20D-97277AB29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B78C-606F-4AC0-8CF3-3EFDB94BD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21BD-6C06-4733-A7B7-51D88C3F0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E4CD-EEEF-4A50-8070-D14DD4BB4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5751-3F6D-4579-B574-126C273C8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460C-0E53-4ECA-9493-C6A644B11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763F-FD12-4924-8C52-07CAD6F9F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2AE4-2743-4027-8205-9ACF5CC8F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BD64-751C-422D-8F24-61771437C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5E66-89FA-4680-A398-B3314D78A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B66F-D5F5-4E26-9EEC-931BC796F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1BF4-8CCB-408F-874F-DA8B6ABC0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29F4F-2729-44ED-B5E9-B97E494182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ritish Asians in Cine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se study: 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‘Shifty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#</cp:lastModifiedBy>
  <dcterms:modified xsi:type="dcterms:W3CDTF">2009-09-08T15:22:09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